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8EF9-C33C-42B9-A27C-C1790A1E3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5871-18D8-4A5D-A689-EFBD5536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767D-5570-4A96-83D3-0FD300BA3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A1E9-D797-4DAF-8AAB-83DB67899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6A99-C759-4185-A357-4D446E4A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0654-1418-4B8E-9836-6E74221E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6E96-65AC-4F39-9F9A-FEE14DC9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FEFA-0D2A-45B1-A833-39C8956B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D1F5-1BED-49CA-BE7E-9568DF25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D8E7-20E3-4408-9EE1-1036F6FC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CC31-BB81-492A-89B8-D22CA582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86F2-7F0B-4E61-B53F-7E52D497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D700-20BA-49DC-8651-12B7B0313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GRAPHIC </a:t>
            </a:r>
            <a:br>
              <a:rPr sz="6000"/>
            </a:b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ORGANIZ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ednesday Wo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ay 19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455840" y="1789200"/>
            <a:ext cx="6232320" cy="3319200"/>
            <a:chOff x="1455840" y="1789200"/>
            <a:chExt cx="6232320" cy="3319200"/>
          </a:xfrm>
        </p:grpSpPr>
        <p:sp>
          <p:nvSpPr>
            <p:cNvPr id="112" name="_s12296"/>
            <p:cNvSpPr/>
            <p:nvPr/>
          </p:nvSpPr>
          <p:spPr>
            <a:xfrm>
              <a:off x="3728880" y="2378160"/>
              <a:ext cx="1686240" cy="168588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2297"/>
            <p:cNvSpPr/>
            <p:nvPr/>
          </p:nvSpPr>
          <p:spPr>
            <a:xfrm>
              <a:off x="3728880" y="1789200"/>
              <a:ext cx="168624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2298"/>
            <p:cNvSpPr/>
            <p:nvPr/>
          </p:nvSpPr>
          <p:spPr>
            <a:xfrm>
              <a:off x="4282920" y="3340080"/>
              <a:ext cx="1686240" cy="168588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2299"/>
            <p:cNvSpPr/>
            <p:nvPr/>
          </p:nvSpPr>
          <p:spPr>
            <a:xfrm>
              <a:off x="6002280" y="4687920"/>
              <a:ext cx="16858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2300"/>
            <p:cNvSpPr/>
            <p:nvPr/>
          </p:nvSpPr>
          <p:spPr>
            <a:xfrm>
              <a:off x="3173400" y="3338640"/>
              <a:ext cx="1685880" cy="16858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2301"/>
            <p:cNvSpPr/>
            <p:nvPr/>
          </p:nvSpPr>
          <p:spPr>
            <a:xfrm>
              <a:off x="1455840" y="4687920"/>
              <a:ext cx="16858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233360" y="1789200"/>
            <a:ext cx="6677280" cy="4145040"/>
            <a:chOff x="1233360" y="1789200"/>
            <a:chExt cx="6677280" cy="4145040"/>
          </a:xfrm>
        </p:grpSpPr>
        <p:sp>
          <p:nvSpPr>
            <p:cNvPr id="120" name="_s24584"/>
            <p:cNvSpPr/>
            <p:nvPr/>
          </p:nvSpPr>
          <p:spPr>
            <a:xfrm>
              <a:off x="3728880" y="2378160"/>
              <a:ext cx="1686240" cy="1685880"/>
            </a:xfrm>
            <a:prstGeom prst="ellipse">
              <a:avLst/>
            </a:prstGeom>
            <a:solidFill>
              <a:srgbClr val="ffff00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24585"/>
            <p:cNvSpPr/>
            <p:nvPr/>
          </p:nvSpPr>
          <p:spPr>
            <a:xfrm>
              <a:off x="3728880" y="1789200"/>
              <a:ext cx="1686240" cy="420480"/>
            </a:xfrm>
            <a:prstGeom prst="rect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itannic Bold"/>
                </a:rPr>
                <a:t>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24586"/>
            <p:cNvSpPr/>
            <p:nvPr/>
          </p:nvSpPr>
          <p:spPr>
            <a:xfrm>
              <a:off x="4181400" y="2565360"/>
              <a:ext cx="1685880" cy="168588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4587"/>
            <p:cNvSpPr/>
            <p:nvPr/>
          </p:nvSpPr>
          <p:spPr>
            <a:xfrm>
              <a:off x="5740560" y="2271600"/>
              <a:ext cx="1685880" cy="420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ami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24588"/>
            <p:cNvSpPr/>
            <p:nvPr/>
          </p:nvSpPr>
          <p:spPr>
            <a:xfrm>
              <a:off x="4368960" y="3017880"/>
              <a:ext cx="1685880" cy="168588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4589"/>
            <p:cNvSpPr/>
            <p:nvPr/>
          </p:nvSpPr>
          <p:spPr>
            <a:xfrm>
              <a:off x="6224760" y="3651120"/>
              <a:ext cx="16858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o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4590"/>
            <p:cNvSpPr/>
            <p:nvPr/>
          </p:nvSpPr>
          <p:spPr>
            <a:xfrm>
              <a:off x="4181400" y="3470400"/>
              <a:ext cx="1685880" cy="168588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4591"/>
            <p:cNvSpPr/>
            <p:nvPr/>
          </p:nvSpPr>
          <p:spPr>
            <a:xfrm>
              <a:off x="5740560" y="5029200"/>
              <a:ext cx="16858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ho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4592"/>
            <p:cNvSpPr/>
            <p:nvPr/>
          </p:nvSpPr>
          <p:spPr>
            <a:xfrm>
              <a:off x="3728880" y="3657600"/>
              <a:ext cx="1686240" cy="168588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46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24593"/>
            <p:cNvSpPr/>
            <p:nvPr/>
          </p:nvSpPr>
          <p:spPr>
            <a:xfrm>
              <a:off x="3728880" y="5513400"/>
              <a:ext cx="168624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hle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4594"/>
            <p:cNvSpPr/>
            <p:nvPr/>
          </p:nvSpPr>
          <p:spPr>
            <a:xfrm>
              <a:off x="3276720" y="3470400"/>
              <a:ext cx="1685880" cy="168588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24595"/>
            <p:cNvSpPr/>
            <p:nvPr/>
          </p:nvSpPr>
          <p:spPr>
            <a:xfrm>
              <a:off x="1717560" y="5029200"/>
              <a:ext cx="16858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o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24596"/>
            <p:cNvSpPr/>
            <p:nvPr/>
          </p:nvSpPr>
          <p:spPr>
            <a:xfrm>
              <a:off x="3089160" y="3017880"/>
              <a:ext cx="1685880" cy="168588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24597"/>
            <p:cNvSpPr/>
            <p:nvPr/>
          </p:nvSpPr>
          <p:spPr>
            <a:xfrm>
              <a:off x="1233360" y="3651120"/>
              <a:ext cx="16858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ub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24598"/>
            <p:cNvSpPr/>
            <p:nvPr/>
          </p:nvSpPr>
          <p:spPr>
            <a:xfrm>
              <a:off x="3276720" y="2565360"/>
              <a:ext cx="1685880" cy="16858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24599"/>
            <p:cNvSpPr/>
            <p:nvPr/>
          </p:nvSpPr>
          <p:spPr>
            <a:xfrm>
              <a:off x="1717560" y="2271600"/>
              <a:ext cx="1685880" cy="4208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mun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GET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836800" y="1727280"/>
            <a:ext cx="3870360" cy="3335400"/>
            <a:chOff x="2836800" y="1727280"/>
            <a:chExt cx="3870360" cy="3335400"/>
          </a:xfrm>
        </p:grpSpPr>
        <p:sp>
          <p:nvSpPr>
            <p:cNvPr id="138" name="_s26636"/>
            <p:cNvSpPr/>
            <p:nvPr/>
          </p:nvSpPr>
          <p:spPr>
            <a:xfrm>
              <a:off x="2836800" y="2662200"/>
              <a:ext cx="2400480" cy="2400480"/>
            </a:xfrm>
            <a:prstGeom prst="donut">
              <a:avLst>
                <a:gd name="adj" fmla="val 1666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26637"/>
            <p:cNvSpPr/>
            <p:nvPr/>
          </p:nvSpPr>
          <p:spPr>
            <a:xfrm>
              <a:off x="6066000" y="2793960"/>
              <a:ext cx="641160" cy="53352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26634"/>
            <p:cNvSpPr/>
            <p:nvPr/>
          </p:nvSpPr>
          <p:spPr>
            <a:xfrm>
              <a:off x="3236760" y="3062160"/>
              <a:ext cx="1600200" cy="160020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26635"/>
            <p:cNvSpPr/>
            <p:nvPr/>
          </p:nvSpPr>
          <p:spPr>
            <a:xfrm>
              <a:off x="6066000" y="2260440"/>
              <a:ext cx="641160" cy="53352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26632"/>
            <p:cNvSpPr/>
            <p:nvPr/>
          </p:nvSpPr>
          <p:spPr>
            <a:xfrm>
              <a:off x="3637080" y="3462480"/>
              <a:ext cx="799920" cy="799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26633"/>
            <p:cNvSpPr/>
            <p:nvPr/>
          </p:nvSpPr>
          <p:spPr>
            <a:xfrm>
              <a:off x="6066000" y="1727280"/>
              <a:ext cx="641160" cy="5331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GET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836800" y="1727280"/>
            <a:ext cx="3870360" cy="3335400"/>
            <a:chOff x="2836800" y="1727280"/>
            <a:chExt cx="3870360" cy="3335400"/>
          </a:xfrm>
        </p:grpSpPr>
        <p:sp>
          <p:nvSpPr>
            <p:cNvPr id="146" name="_s14348"/>
            <p:cNvSpPr/>
            <p:nvPr/>
          </p:nvSpPr>
          <p:spPr>
            <a:xfrm>
              <a:off x="2836800" y="2662200"/>
              <a:ext cx="2400480" cy="2400480"/>
            </a:xfrm>
            <a:prstGeom prst="donut">
              <a:avLst>
                <a:gd name="adj" fmla="val 16666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14349"/>
            <p:cNvSpPr/>
            <p:nvPr/>
          </p:nvSpPr>
          <p:spPr>
            <a:xfrm>
              <a:off x="6066000" y="2793960"/>
              <a:ext cx="641160" cy="53352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4346"/>
            <p:cNvSpPr/>
            <p:nvPr/>
          </p:nvSpPr>
          <p:spPr>
            <a:xfrm>
              <a:off x="3236760" y="3062160"/>
              <a:ext cx="1600200" cy="160020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14347"/>
            <p:cNvSpPr/>
            <p:nvPr/>
          </p:nvSpPr>
          <p:spPr>
            <a:xfrm>
              <a:off x="6066000" y="2260440"/>
              <a:ext cx="641160" cy="53352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ficien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4344"/>
            <p:cNvSpPr/>
            <p:nvPr/>
          </p:nvSpPr>
          <p:spPr>
            <a:xfrm>
              <a:off x="3637080" y="3462480"/>
              <a:ext cx="799920" cy="79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4345"/>
            <p:cNvSpPr/>
            <p:nvPr/>
          </p:nvSpPr>
          <p:spPr>
            <a:xfrm>
              <a:off x="6066000" y="1727280"/>
              <a:ext cx="641160" cy="5331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vance Profic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TIONAL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57200" y="1614600"/>
            <a:ext cx="8228880" cy="4494600"/>
            <a:chOff x="457200" y="1614600"/>
            <a:chExt cx="8228880" cy="4494600"/>
          </a:xfrm>
        </p:grpSpPr>
        <p:cxnSp>
          <p:nvCxnSpPr>
            <p:cNvPr id="45" name="_s16398"/>
            <p:cNvCxnSpPr>
              <a:stCxn id="46" idx="0"/>
              <a:endCxn id="47" idx="2"/>
            </p:cNvCxnSpPr>
            <p:nvPr/>
          </p:nvCxnSpPr>
          <p:spPr>
            <a:xfrm flipV="1" rot="16200000">
              <a:off x="5561640" y="2421000"/>
              <a:ext cx="899640" cy="2880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16397"/>
            <p:cNvCxnSpPr>
              <a:stCxn id="49" idx="0"/>
              <a:endCxn id="47" idx="2"/>
            </p:cNvCxnSpPr>
            <p:nvPr/>
          </p:nvCxnSpPr>
          <p:spPr>
            <a:xfrm flipV="1">
              <a:off x="4571280" y="3411720"/>
              <a:ext cx="3240" cy="899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16396"/>
            <p:cNvCxnSpPr>
              <a:stCxn id="51" idx="0"/>
              <a:endCxn id="47" idx="2"/>
            </p:cNvCxnSpPr>
            <p:nvPr/>
          </p:nvCxnSpPr>
          <p:spPr>
            <a:xfrm flipH="1" flipV="1" rot="5400000">
              <a:off x="2681640" y="2421360"/>
              <a:ext cx="899640" cy="2880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7" name="_s16392"/>
            <p:cNvSpPr/>
            <p:nvPr/>
          </p:nvSpPr>
          <p:spPr>
            <a:xfrm>
              <a:off x="3337200" y="161460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6393"/>
            <p:cNvSpPr/>
            <p:nvPr/>
          </p:nvSpPr>
          <p:spPr>
            <a:xfrm>
              <a:off x="457200" y="43113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6394"/>
            <p:cNvSpPr/>
            <p:nvPr/>
          </p:nvSpPr>
          <p:spPr>
            <a:xfrm>
              <a:off x="3337200" y="43113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16395"/>
            <p:cNvSpPr/>
            <p:nvPr/>
          </p:nvSpPr>
          <p:spPr>
            <a:xfrm>
              <a:off x="6217560" y="43113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TIONAL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57200" y="1614600"/>
            <a:ext cx="8228880" cy="4937760"/>
            <a:chOff x="457200" y="1614600"/>
            <a:chExt cx="8228880" cy="4937760"/>
          </a:xfrm>
        </p:grpSpPr>
        <p:cxnSp>
          <p:nvCxnSpPr>
            <p:cNvPr id="54" name="_s3094"/>
            <p:cNvCxnSpPr>
              <a:stCxn id="55" idx="3"/>
              <a:endCxn id="56" idx="2"/>
            </p:cNvCxnSpPr>
            <p:nvPr/>
          </p:nvCxnSpPr>
          <p:spPr>
            <a:xfrm flipV="1">
              <a:off x="7040520" y="4699800"/>
              <a:ext cx="411840" cy="1235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3091"/>
            <p:cNvCxnSpPr>
              <a:stCxn id="58" idx="0"/>
              <a:endCxn id="59" idx="2"/>
            </p:cNvCxnSpPr>
            <p:nvPr/>
          </p:nvCxnSpPr>
          <p:spPr>
            <a:xfrm flipV="1">
              <a:off x="1690920" y="4700160"/>
              <a:ext cx="3240" cy="617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3089"/>
            <p:cNvCxnSpPr>
              <a:stCxn id="56" idx="0"/>
              <a:endCxn id="61" idx="2"/>
            </p:cNvCxnSpPr>
            <p:nvPr/>
          </p:nvCxnSpPr>
          <p:spPr>
            <a:xfrm flipV="1" rot="16200000">
              <a:off x="5702760" y="1716840"/>
              <a:ext cx="617760" cy="2880720"/>
            </a:xfrm>
            <a:prstGeom prst="bentConnector3">
              <a:avLst>
                <a:gd name="adj1" fmla="val 184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3088"/>
            <p:cNvCxnSpPr>
              <a:stCxn id="63" idx="0"/>
              <a:endCxn id="61" idx="2"/>
            </p:cNvCxnSpPr>
            <p:nvPr/>
          </p:nvCxnSpPr>
          <p:spPr>
            <a:xfrm flipV="1">
              <a:off x="4571280" y="2848680"/>
              <a:ext cx="3240" cy="617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3087"/>
            <p:cNvCxnSpPr>
              <a:stCxn id="59" idx="0"/>
              <a:endCxn id="61" idx="2"/>
            </p:cNvCxnSpPr>
            <p:nvPr/>
          </p:nvCxnSpPr>
          <p:spPr>
            <a:xfrm flipH="1" flipV="1" rot="5400000">
              <a:off x="2822400" y="1717200"/>
              <a:ext cx="617760" cy="2880720"/>
            </a:xfrm>
            <a:prstGeom prst="bentConnector3">
              <a:avLst>
                <a:gd name="adj1" fmla="val 184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1" name="_s3083"/>
            <p:cNvSpPr/>
            <p:nvPr/>
          </p:nvSpPr>
          <p:spPr>
            <a:xfrm>
              <a:off x="3337200" y="1614600"/>
              <a:ext cx="2468520" cy="123444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E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3084"/>
            <p:cNvSpPr/>
            <p:nvPr/>
          </p:nvSpPr>
          <p:spPr>
            <a:xfrm>
              <a:off x="457200" y="3466080"/>
              <a:ext cx="2468520" cy="123444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CO-WORKE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085"/>
            <p:cNvSpPr/>
            <p:nvPr/>
          </p:nvSpPr>
          <p:spPr>
            <a:xfrm>
              <a:off x="3337200" y="3466080"/>
              <a:ext cx="2468520" cy="123444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CO-WORKE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3086"/>
            <p:cNvSpPr/>
            <p:nvPr/>
          </p:nvSpPr>
          <p:spPr>
            <a:xfrm>
              <a:off x="6217560" y="3466080"/>
              <a:ext cx="2468520" cy="123444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CO-WORKE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090"/>
            <p:cNvSpPr/>
            <p:nvPr/>
          </p:nvSpPr>
          <p:spPr>
            <a:xfrm>
              <a:off x="457200" y="5317920"/>
              <a:ext cx="2468520" cy="12344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SUBORDINAT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3093"/>
            <p:cNvSpPr/>
            <p:nvPr/>
          </p:nvSpPr>
          <p:spPr>
            <a:xfrm>
              <a:off x="4571640" y="5317920"/>
              <a:ext cx="2468520" cy="123444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ASSISTAN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190600" y="1951200"/>
            <a:ext cx="4764600" cy="4125960"/>
            <a:chOff x="2190600" y="1951200"/>
            <a:chExt cx="4764600" cy="4125960"/>
          </a:xfrm>
        </p:grpSpPr>
        <p:sp>
          <p:nvSpPr>
            <p:cNvPr id="67" name="_s18442"/>
            <p:cNvSpPr/>
            <p:nvPr/>
          </p:nvSpPr>
          <p:spPr>
            <a:xfrm>
              <a:off x="3119400" y="1951200"/>
              <a:ext cx="2906640" cy="290664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8443"/>
            <p:cNvSpPr/>
            <p:nvPr/>
          </p:nvSpPr>
          <p:spPr>
            <a:xfrm rot="7200000">
              <a:off x="3516480" y="2638080"/>
              <a:ext cx="2906640" cy="290664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8445"/>
            <p:cNvSpPr/>
            <p:nvPr/>
          </p:nvSpPr>
          <p:spPr>
            <a:xfrm rot="14400000">
              <a:off x="2722320" y="2638440"/>
              <a:ext cx="2906640" cy="290664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8440"/>
            <p:cNvSpPr/>
            <p:nvPr/>
          </p:nvSpPr>
          <p:spPr>
            <a:xfrm>
              <a:off x="5367240" y="2482920"/>
              <a:ext cx="116532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8441"/>
            <p:cNvSpPr/>
            <p:nvPr/>
          </p:nvSpPr>
          <p:spPr>
            <a:xfrm>
              <a:off x="3989520" y="4870440"/>
              <a:ext cx="116496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8444"/>
            <p:cNvSpPr/>
            <p:nvPr/>
          </p:nvSpPr>
          <p:spPr>
            <a:xfrm>
              <a:off x="2611440" y="2484360"/>
              <a:ext cx="116532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190600" y="1951200"/>
            <a:ext cx="4764600" cy="4125960"/>
            <a:chOff x="2190600" y="1951200"/>
            <a:chExt cx="4764600" cy="4125960"/>
          </a:xfrm>
        </p:grpSpPr>
        <p:sp>
          <p:nvSpPr>
            <p:cNvPr id="75" name="_s6154"/>
            <p:cNvSpPr/>
            <p:nvPr/>
          </p:nvSpPr>
          <p:spPr>
            <a:xfrm>
              <a:off x="3119400" y="1951200"/>
              <a:ext cx="2906640" cy="290664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0000"/>
            </a:solidFill>
            <a:ln w="763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6155"/>
            <p:cNvSpPr/>
            <p:nvPr/>
          </p:nvSpPr>
          <p:spPr>
            <a:xfrm rot="7200000">
              <a:off x="3516480" y="2638080"/>
              <a:ext cx="2906640" cy="290664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3399"/>
            </a:solidFill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6157"/>
            <p:cNvSpPr/>
            <p:nvPr/>
          </p:nvSpPr>
          <p:spPr>
            <a:xfrm rot="14400000">
              <a:off x="2722320" y="2638440"/>
              <a:ext cx="2906640" cy="290664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6152"/>
            <p:cNvSpPr/>
            <p:nvPr/>
          </p:nvSpPr>
          <p:spPr>
            <a:xfrm>
              <a:off x="5367240" y="2482920"/>
              <a:ext cx="1165320" cy="1165320"/>
            </a:xfrm>
            <a:prstGeom prst="rect">
              <a:avLst/>
            </a:prstGeom>
            <a:noFill/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rit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6153"/>
            <p:cNvSpPr/>
            <p:nvPr/>
          </p:nvSpPr>
          <p:spPr>
            <a:xfrm>
              <a:off x="3989520" y="4870440"/>
              <a:ext cx="1164960" cy="1165320"/>
            </a:xfrm>
            <a:prstGeom prst="rect">
              <a:avLst/>
            </a:prstGeom>
            <a:noFill/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6156"/>
            <p:cNvSpPr/>
            <p:nvPr/>
          </p:nvSpPr>
          <p:spPr>
            <a:xfrm>
              <a:off x="2611440" y="2484360"/>
              <a:ext cx="1165320" cy="1165320"/>
            </a:xfrm>
            <a:prstGeom prst="rect">
              <a:avLst/>
            </a:prstGeom>
            <a:noFill/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Ques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652840" y="1727280"/>
            <a:ext cx="3838320" cy="3468600"/>
            <a:chOff x="2652840" y="1727280"/>
            <a:chExt cx="3838320" cy="3468600"/>
          </a:xfrm>
        </p:grpSpPr>
        <p:sp>
          <p:nvSpPr>
            <p:cNvPr id="83" name="_s20494"/>
            <p:cNvSpPr/>
            <p:nvPr/>
          </p:nvSpPr>
          <p:spPr>
            <a:xfrm flipH="1">
              <a:off x="3647880" y="4127400"/>
              <a:ext cx="461880" cy="26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20493"/>
            <p:cNvSpPr/>
            <p:nvPr/>
          </p:nvSpPr>
          <p:spPr>
            <a:xfrm>
              <a:off x="2652840" y="4129200"/>
              <a:ext cx="106668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0492"/>
            <p:cNvSpPr/>
            <p:nvPr/>
          </p:nvSpPr>
          <p:spPr>
            <a:xfrm>
              <a:off x="5032440" y="4129200"/>
              <a:ext cx="46332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0491"/>
            <p:cNvSpPr/>
            <p:nvPr/>
          </p:nvSpPr>
          <p:spPr>
            <a:xfrm>
              <a:off x="5424480" y="4129200"/>
              <a:ext cx="106668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20490"/>
            <p:cNvSpPr/>
            <p:nvPr/>
          </p:nvSpPr>
          <p:spPr>
            <a:xfrm flipV="1">
              <a:off x="4572000" y="2793960"/>
              <a:ext cx="0" cy="53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0489"/>
            <p:cNvSpPr/>
            <p:nvPr/>
          </p:nvSpPr>
          <p:spPr>
            <a:xfrm>
              <a:off x="4038480" y="1727280"/>
              <a:ext cx="106704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20488"/>
            <p:cNvSpPr/>
            <p:nvPr/>
          </p:nvSpPr>
          <p:spPr>
            <a:xfrm>
              <a:off x="4038480" y="3328920"/>
              <a:ext cx="106704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652840" y="1713240"/>
            <a:ext cx="3838320" cy="3479400"/>
            <a:chOff x="2652840" y="1713240"/>
            <a:chExt cx="3838320" cy="3479400"/>
          </a:xfrm>
        </p:grpSpPr>
        <p:sp>
          <p:nvSpPr>
            <p:cNvPr id="92" name="_s8206"/>
            <p:cNvSpPr/>
            <p:nvPr/>
          </p:nvSpPr>
          <p:spPr>
            <a:xfrm flipH="1">
              <a:off x="3647880" y="4120920"/>
              <a:ext cx="461880" cy="26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8205"/>
            <p:cNvSpPr/>
            <p:nvPr/>
          </p:nvSpPr>
          <p:spPr>
            <a:xfrm>
              <a:off x="2652840" y="4122720"/>
              <a:ext cx="1066680" cy="1069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Athletic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8204"/>
            <p:cNvSpPr/>
            <p:nvPr/>
          </p:nvSpPr>
          <p:spPr>
            <a:xfrm>
              <a:off x="5032440" y="4122720"/>
              <a:ext cx="463320" cy="26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8203"/>
            <p:cNvSpPr/>
            <p:nvPr/>
          </p:nvSpPr>
          <p:spPr>
            <a:xfrm>
              <a:off x="5424480" y="4122720"/>
              <a:ext cx="1066680" cy="1069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Activ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8202"/>
            <p:cNvSpPr/>
            <p:nvPr/>
          </p:nvSpPr>
          <p:spPr>
            <a:xfrm flipV="1">
              <a:off x="4572000" y="2783160"/>
              <a:ext cx="0" cy="53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8201"/>
            <p:cNvSpPr/>
            <p:nvPr/>
          </p:nvSpPr>
          <p:spPr>
            <a:xfrm>
              <a:off x="4038480" y="1713240"/>
              <a:ext cx="1067040" cy="1069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Academi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8200"/>
            <p:cNvSpPr/>
            <p:nvPr/>
          </p:nvSpPr>
          <p:spPr>
            <a:xfrm>
              <a:off x="4038480" y="3319920"/>
              <a:ext cx="1067040" cy="10702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809880" y="20574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RAM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436840" y="2013120"/>
            <a:ext cx="4270320" cy="3698640"/>
            <a:chOff x="2436840" y="2013120"/>
            <a:chExt cx="4270320" cy="3698640"/>
          </a:xfrm>
        </p:grpSpPr>
        <p:sp>
          <p:nvSpPr>
            <p:cNvPr id="102" name="_s22536"/>
            <p:cNvSpPr/>
            <p:nvPr/>
          </p:nvSpPr>
          <p:spPr>
            <a:xfrm flipV="1">
              <a:off x="3860640" y="2013120"/>
              <a:ext cx="1422720" cy="1233360"/>
            </a:xfrm>
            <a:custGeom>
              <a:avLst/>
              <a:gdLst>
                <a:gd name="textAreaLeft" fmla="*/ 510480 w 1422720"/>
                <a:gd name="textAreaRight" fmla="*/ 912240 w 1422720"/>
                <a:gd name="textAreaTop" fmla="*/ 442440 h 1233360"/>
                <a:gd name="textAreaBottom" fmla="*/ 790920 h 12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22537"/>
            <p:cNvSpPr/>
            <p:nvPr/>
          </p:nvSpPr>
          <p:spPr>
            <a:xfrm flipV="1">
              <a:off x="3147840" y="3246480"/>
              <a:ext cx="2848320" cy="1231920"/>
            </a:xfrm>
            <a:custGeom>
              <a:avLst/>
              <a:gdLst>
                <a:gd name="textAreaLeft" fmla="*/ 626400 w 2848320"/>
                <a:gd name="textAreaRight" fmla="*/ 2221920 w 2848320"/>
                <a:gd name="textAreaTop" fmla="*/ 270720 h 1231920"/>
                <a:gd name="textAreaBottom" fmla="*/ 961200 h 123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22538"/>
            <p:cNvSpPr/>
            <p:nvPr/>
          </p:nvSpPr>
          <p:spPr>
            <a:xfrm flipV="1">
              <a:off x="2436840" y="4478400"/>
              <a:ext cx="4270320" cy="1233360"/>
            </a:xfrm>
            <a:custGeom>
              <a:avLst/>
              <a:gdLst>
                <a:gd name="textAreaLeft" fmla="*/ 741240 w 4270320"/>
                <a:gd name="textAreaRight" fmla="*/ 3529080 w 4270320"/>
                <a:gd name="textAreaTop" fmla="*/ 213840 h 1233360"/>
                <a:gd name="textAreaBottom" fmla="*/ 1019520 h 12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RAM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436840" y="2013120"/>
            <a:ext cx="4270320" cy="3698640"/>
            <a:chOff x="2436840" y="2013120"/>
            <a:chExt cx="4270320" cy="3698640"/>
          </a:xfrm>
        </p:grpSpPr>
        <p:sp>
          <p:nvSpPr>
            <p:cNvPr id="107" name="_s10248"/>
            <p:cNvSpPr/>
            <p:nvPr/>
          </p:nvSpPr>
          <p:spPr>
            <a:xfrm flipV="1">
              <a:off x="3860640" y="2013120"/>
              <a:ext cx="1422720" cy="1233360"/>
            </a:xfrm>
            <a:custGeom>
              <a:avLst/>
              <a:gdLst>
                <a:gd name="textAreaLeft" fmla="*/ 510480 w 1422720"/>
                <a:gd name="textAreaRight" fmla="*/ 912240 w 1422720"/>
                <a:gd name="textAreaTop" fmla="*/ 442440 h 1233360"/>
                <a:gd name="textAreaBottom" fmla="*/ 790920 h 12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0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251"/>
            <p:cNvSpPr/>
            <p:nvPr/>
          </p:nvSpPr>
          <p:spPr>
            <a:xfrm flipV="1">
              <a:off x="3147840" y="3246480"/>
              <a:ext cx="2848320" cy="1231920"/>
            </a:xfrm>
            <a:custGeom>
              <a:avLst/>
              <a:gdLst>
                <a:gd name="textAreaLeft" fmla="*/ 626400 w 2848320"/>
                <a:gd name="textAreaRight" fmla="*/ 2221920 w 2848320"/>
                <a:gd name="textAreaTop" fmla="*/ 270720 h 1231920"/>
                <a:gd name="textAreaBottom" fmla="*/ 961200 h 123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c99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252"/>
            <p:cNvSpPr/>
            <p:nvPr/>
          </p:nvSpPr>
          <p:spPr>
            <a:xfrm flipV="1">
              <a:off x="2436840" y="4478400"/>
              <a:ext cx="4270320" cy="1233360"/>
            </a:xfrm>
            <a:custGeom>
              <a:avLst/>
              <a:gdLst>
                <a:gd name="textAreaLeft" fmla="*/ 741240 w 4270320"/>
                <a:gd name="textAreaRight" fmla="*/ 3529080 w 4270320"/>
                <a:gd name="textAreaTop" fmla="*/ 213840 h 1233360"/>
                <a:gd name="textAreaBottom" fmla="*/ 1019520 h 12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4:09:37Z</dcterms:created>
  <dc:creator>buppkat</dc:creator>
  <dc:description/>
  <dc:language>en-US</dc:language>
  <cp:lastModifiedBy>buppkat</cp:lastModifiedBy>
  <dcterms:modified xsi:type="dcterms:W3CDTF">2010-05-19T00:43:18Z</dcterms:modified>
  <cp:revision>15</cp:revision>
  <dc:subject/>
  <dc:title>GRAPHIC  ORGANIZERS</dc:title>
</cp:coreProperties>
</file>